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98E-E1C5-4D3F-A4A2-89F89756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50B-A7AC-4E0E-91BD-E40F956B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1FD-E1A5-4001-A44E-D0702612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586-98BD-4AF9-95C1-E5CF32BA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52B-6362-4DB6-B36B-200E949E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A8D-509C-4575-885B-E144FD55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956-EA8E-4EE8-9B04-C748B2B8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BDA3-C81D-4132-80FE-9C1FE9C2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83AC-4847-48C5-A887-D7876A4C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52F-1EE3-4B48-8464-9B5387DA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2F0-1022-4FCE-AD74-4DF4769F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21A-4712-4AA0-9A91-9525A2C4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4871-7A1C-4D44-9048-6FD05575F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bankcoin.com/jakegint/wp-content/imagescaler/df8ee9b824716f36979d271a130a6eb0.jpg&amp;imgrefurl=http://ibankcoin.com/jakegint/2009/07/29/lord-of-the-flies-decade/&amp;usg=__CXB6ZRgtJMec9k2qLGQ-nxA5DVo=&amp;h=344&amp;w=450&amp;sz=37&amp;hl=en&amp;start=4&amp;um=1&amp;tbnid=fcgCVPGQY3TseM:&amp;tbnh=97&amp;tbnw=127&amp;prev=/images%3Fq%3DLord%2Bof%2Bthe%2BFlies%26hl%3Den%26safe%3Dactive%26sa%3DN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scienceblogs.com/startswithabang/upload/2009/06/galileo_the_leaning_tower_and/parachute.JPG&amp;imgrefurl=http://scienceblogs.com/startswithabang/2009/06/galileo_the_leaning_tower_and.php&amp;usg=__Y-5u0p5U2RvKF8QlYvsx1_zovNE=&amp;h=864&amp;w=606&amp;sz=49&amp;hl=en&amp;start=4&amp;um=1&amp;tbnid=CIWVYOD4_waDGM:&amp;tbnh=145&amp;tbnw=102&amp;prev=/images%3Fq%3Dparachute%26hl%3Den%26safe%3Dactive%26um%3D1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courses/essential/physicalsci/images/s7.thermometer.jpg&amp;imgrefurl=http://www.learner.org/courses/essential/physicalsci/session7/closer1.html&amp;usg=__WKetoS2C1oxbbp1CaFs00wTUHNM=&amp;h=300&amp;w=300&amp;sz=15&amp;hl=en&amp;start=5&amp;um=1&amp;tbnid=WCBtuWjKX0UDFM:&amp;tbnh=116&amp;tbnw=116&amp;prev=/images%3Fq%3Dthermometer%26hl%3Den%26safe%3Dactive%26um%3D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211.photobucket.com/albums/bb109/man_ray_sky/Conch_shell_2.jpg&amp;imgrefurl=http://www.myspace.com/195029423&amp;usg=__EX2hYhSS__oGH4Q_m2QqXhRUa5o=&amp;h=961&amp;w=1024&amp;sz=479&amp;hl=en&amp;start=5&amp;um=1&amp;tbnid=a96aPMydghi-ZM:&amp;tbnh=141&amp;tbnw=150&amp;prev=/images%3Fq%3Dconch%2Bshell%26hl%3Den%26safe%3Dactive%26um%3D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Chapter 9:  A View to a De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s 153-1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What happened to the dead body caught in the parachu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What happened to Simon’s bo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Question #1:  Pred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o do you think is going to die in this Chapter?  W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Arial"/>
              </a:rPr>
              <a:t>Question #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What is the weather like on the island to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What does Simon discover on this pa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724200"/>
            <a:ext cx="3038760" cy="2320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92800" y="3191040"/>
            <a:ext cx="19368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How is the weather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152388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What were all the boys doing together, when Piggy &amp; Ralph found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Evening was come, not with calm beauty but with the threat of violenc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literary term describes the sentence ab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usion, Infer or Foresha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Symbol:  What did the CONCH stan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7760" y="1523880"/>
            <a:ext cx="307656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What line does Golding keep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repeating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 on this p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43200" y="338148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4:25:28Z</dcterms:created>
  <dc:creator>BPS</dc:creator>
  <dc:description/>
  <dc:language>en-US</dc:language>
  <cp:lastModifiedBy>BPS</cp:lastModifiedBy>
  <dcterms:modified xsi:type="dcterms:W3CDTF">2010-01-19T16:05:38Z</dcterms:modified>
  <cp:revision>11</cp:revision>
  <dc:subject/>
  <dc:title>Chapter 9:  A View to a Death</dc:title>
</cp:coreProperties>
</file>